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55F7-8354-4CBF-B78C-8C9D31FA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BF47-3453-4769-A76F-8C965FF7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36F2-E4FA-4191-B0E9-32ACDBD0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5B5A-8DA0-4CE4-8B93-53D944F7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5438-DE61-4D82-89F2-C6EC532E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B5CD-0AE4-4232-A1CB-FE15372C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36AB-DD0F-48AF-A413-B2103870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7C4C-B879-4C45-A6D5-BF08D609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85D1-7460-4CB1-ACCF-04A778B7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C963-5634-4BEE-9513-4C2CE740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97CD-AA3B-4BFB-8C1F-7E9C48E1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9C97-A559-4B10-9E58-2D8B5A4E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5BBB-308A-4EAC-B0BC-E7C90BF8E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0.tqn.com/d/geography/1/0/Q/K/chin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INA or USA 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4648320" cy="3082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4076640" cy="25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country has more internet us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2590920" cy="1717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38080" y="4713120"/>
            <a:ext cx="2210040" cy="1370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733920" y="2743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9,000,000    ranks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4952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5,000,000    ranks 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country has a lower unemployment r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2590920" cy="1717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38080" y="4713120"/>
            <a:ext cx="2210040" cy="1370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733920" y="2743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4952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66680" y="423720"/>
            <a:ext cx="7239240" cy="6434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819520" y="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46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hina" descr="China Map">
            <a:hlinkClick r:id="rId1"/>
          </p:cNvPr>
          <p:cNvPicPr/>
          <p:nvPr/>
        </p:nvPicPr>
        <p:blipFill>
          <a:blip r:embed="rId2">
            <a:lum bright="4000"/>
          </a:blip>
          <a:stretch/>
        </p:blipFill>
        <p:spPr>
          <a:xfrm>
            <a:off x="304920" y="228600"/>
            <a:ext cx="8580240" cy="6435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5800" y="1981080"/>
            <a:ext cx="76201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eastern Asi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orld’s most populated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urth largest country in terms of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ijing is the capita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anghai is the large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0% of it is mountains, hills, and high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de range of climat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st farmland and people are in the 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st live in towns or villag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public government controlled by the Communist 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overnment controls economy but is letting more free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1295280" y="38160"/>
            <a:ext cx="6577200" cy="6819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124080" y="762120"/>
            <a:ext cx="44960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in 5 people are Chin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st work in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0% live in eastern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2% are 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mily is very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ve modes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n marry after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omen marry after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nly allowed to have two k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ne of the world’s oldest civil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veloped the compass, paper, and porcel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612000"/>
            <a:ext cx="8534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inese language has over a ___________________ characters in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ncient form of writing from China is called __________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________________ and _________________ are two symbols of Commun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ides rice the ______________________ plant has been grown in China for a long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 on the Chinese flag stands for revolution, the big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s the _______________________, and the four smaller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 for the __________________________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 has a ___________________________ 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inese were the first to use _______________________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currency is called the _______________________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’s official national religion is _______________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__________________________________ has the most fertile soil in Ch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ies Around the World: 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5335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ous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1066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lli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676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a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ck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4382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yb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276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35812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munist 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3886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44197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4952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per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5257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u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5715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he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63244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angtze River D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782640"/>
            <a:ext cx="9144000" cy="6075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RN CHINA CROSSWORD PUZZ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country is larger in terms of popu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2590920" cy="1717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4713120"/>
            <a:ext cx="2210040" cy="137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33920" y="2743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336,718,015    ranks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4952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3,232,044    ranks 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country is larger in terms of ar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2590920" cy="1717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8080" y="4713120"/>
            <a:ext cx="2210040" cy="1370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33920" y="2743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ks 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49528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ks #3   USA is slight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country is the other country’s largest importer of their produc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2590920" cy="1717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38080" y="4713120"/>
            <a:ext cx="2210040" cy="137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733920" y="274320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na imports less than 10% of USA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49528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 imports almost 20% of China’s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country has the higher literacy rate – people over 15 who can read and wr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2590920" cy="1717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38080" y="4713120"/>
            <a:ext cx="2210040" cy="1370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33920" y="2743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4952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country has the younger median 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2590920" cy="1717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38080" y="4713120"/>
            <a:ext cx="2210040" cy="137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733920" y="2743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4952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country has more arable land (farmland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2590920" cy="1717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38080" y="4713120"/>
            <a:ext cx="2210040" cy="1370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733920" y="2743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4952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country imports the most barrels of oil a 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2590920" cy="1717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38080" y="4713120"/>
            <a:ext cx="2210040" cy="1370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733920" y="2743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 6 million    ranks 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952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 10 million    ranks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country has the most cell ph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2590920" cy="1717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38080" y="4713120"/>
            <a:ext cx="2210040" cy="1370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733920" y="2743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59,000,000    ranks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4952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9,000,000    ranks 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6:02:38Z</dcterms:created>
  <dc:creator>gehadde</dc:creator>
  <dc:description/>
  <dc:language>en-US</dc:language>
  <cp:lastModifiedBy>gehadde</cp:lastModifiedBy>
  <dcterms:modified xsi:type="dcterms:W3CDTF">2012-02-26T22:08:41Z</dcterms:modified>
  <cp:revision>21</cp:revision>
  <dc:subject/>
  <dc:title>CHINA or USA ???</dc:title>
</cp:coreProperties>
</file>